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B77-6F20-4EF8-88FE-AD45725A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6A3-1E93-457B-9C0E-06363DBD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EA2-D2B8-4059-99A9-D179E87B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6A8-DA77-4E9E-932B-9731CA05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DBCE-63E1-4536-A81A-1EE915BB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26AF-F418-4C22-8ECC-E2AB8CD4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C58B-EF84-4B36-AB65-B26BAA1D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854E-9634-4EEC-8D8A-DEB98BDB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DDC6-5A14-4B3B-963A-2B95CF6F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2F15-E959-4262-84C3-9774AC5A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80A5-DE53-41F3-818B-8ED87932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2F7-3CCC-49AB-A9D4-214CB861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E89B-5865-478B-B171-6ACC565F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71C8-CED0-46D9-9E3D-1F63317A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2F18-CECB-4206-9356-0AB64020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E548-2149-439B-9B14-EF995A3A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2383-ECDB-4C04-85A4-2E9DF39F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387-0C42-4224-B4B0-C6955649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8D3-F613-41BC-8265-4A0853FC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720-B12C-4DB1-8B48-65A5AA18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67C-8A11-4633-A015-5A406A08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B63-182F-4292-8A36-70B80EA9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D0F-6058-4C9E-B186-29243A5C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A14-7777-4191-BB03-2F98A523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3B15-F367-4554-8190-DDE37DEBD170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1F3F-1E0F-49B5-96F9-FC8208FB29C3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  <a:ea typeface="Arial"/>
              </a:rPr>
              <a:t>Properties of Real Number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ea typeface="Arial"/>
              </a:rPr>
              <a:t>Goal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Arial"/>
              </a:rPr>
              <a:t>: Identify the Properties and give an algebraic exampl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Reflex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Reflexive Property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 The same expression is written on both sides of the equal sig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 + b = a + b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ymmetric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ymmetric Property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Flip sid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f a = b, then b = 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ransi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Transi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f a = b and b = c, then a = 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0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bsolute Valu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absolute value of a number is the distance it is away from zero on the number lin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istance is always positive so absolute values are always positive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You cannot travel -3 miles, so distance must be positive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bsolute Valu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4| = 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4| = 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1/2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3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.01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|-3.4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4| + |-7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Properties of Real Numb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properties of real numbers allow us to manipulate expressions and equations and find the values of a variabl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ommuta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Commuta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Positions of terms chan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Deals with ORDER.  It does not matter   what order you ADD or MULTIPL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ddition:  a + b = b + 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ultiplication: ab = b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ssocia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Associa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The grouping of terms chang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“regrouping”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ddition: (a + b) + c = a + (b + c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ultiplication: (ab)c = a(bc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dentity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Identity Properties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Get original term bac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dditive Identity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x + 0 = x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ultiplicative Identity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(x) = x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vers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Arial"/>
              </a:rPr>
              <a:t>Inverse Properties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add to 0 and multiply to 1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dditive Inverse Proper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+ -a = 0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ultiplicative Inverse Proper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4952880"/>
          <a:ext cx="1595520" cy="11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52880"/>
                    <a:ext cx="159552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Distribu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Distribu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(b+c) = ab + a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(j + k)4 = 4j + 4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Name th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4 = 4+0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5(x - 4) = 5x - 20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24(2) = 2(24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(3 + 4) + 7 = 3 + (4 + 7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5638680"/>
          <a:ext cx="236232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638680"/>
                    <a:ext cx="236232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Name th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(7+3)+2 = 2+(7+3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(4) = 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9 + 0 = -9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6 + 4 = 4 + 6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8:29:45Z</dcterms:created>
  <dc:creator>PA Department of Education</dc:creator>
  <dc:description/>
  <dc:language>en-US</dc:language>
  <cp:lastModifiedBy>Parkland High School</cp:lastModifiedBy>
  <dcterms:modified xsi:type="dcterms:W3CDTF">2010-09-13T12:13:46Z</dcterms:modified>
  <cp:revision>4</cp:revision>
  <dc:subject/>
  <dc:title>Unit 1  1.2  Properties of Real Numbers  </dc:title>
</cp:coreProperties>
</file>